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-360" y="6552720"/>
            <a:ext cx="2367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ＭＳ ゴシック"/>
                <a:ea typeface="ＭＳ 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Ⓒ </a:t>
            </a:r>
            <a:r>
              <a:rPr b="0" lang="en-US" sz="7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10 (</a:t>
            </a:r>
            <a:r>
              <a:rPr b="0" lang="zh-CN" sz="7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社</a:t>
            </a:r>
            <a:r>
              <a:rPr b="0" lang="en-US" sz="7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r>
              <a:rPr b="0" lang="zh-CN" sz="7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建設荷役車両安全技術協会 広報委員会</a:t>
            </a:r>
            <a:r>
              <a:rPr b="0" lang="en-US" sz="11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534520" y="65833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64EE-3261-49E8-9227-2F46A0FBE9FE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507000" y="6559560"/>
            <a:ext cx="2252880" cy="29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ff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19280" y="314172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341280" y="1690560"/>
            <a:ext cx="8424720" cy="693720"/>
            <a:chOff x="341280" y="1690560"/>
            <a:chExt cx="8424720" cy="693720"/>
          </a:xfrm>
        </p:grpSpPr>
        <p:sp>
          <p:nvSpPr>
            <p:cNvPr id="42" name=""/>
            <p:cNvSpPr/>
            <p:nvPr/>
          </p:nvSpPr>
          <p:spPr>
            <a:xfrm>
              <a:off x="341280" y="1690560"/>
              <a:ext cx="8424720" cy="693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5"/>
                </a:gs>
                <a:gs pos="100000">
                  <a:srgbClr val="ffddff"/>
                </a:gs>
              </a:gsLst>
              <a:lin ang="5400000"/>
            </a:gradFill>
            <a:ln cap="sq"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41280" y="1752480"/>
              <a:ext cx="84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　</a:t>
              </a:r>
              <a:r>
                <a:rPr b="1" lang="en-US" sz="28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1</a:t>
              </a:r>
              <a:r>
                <a:rPr b="1" lang="zh-CN" sz="28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．全国安全週間とワールドカップの関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68920" y="2814480"/>
            <a:ext cx="399708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42920" y="2840040"/>
            <a:ext cx="462600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HG丸ｺﾞｼｯｸM-PRO"/>
              </a:rPr>
              <a:t>○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HG丸ｺﾞｼｯｸM-PRO"/>
              </a:rPr>
              <a:t>関係がな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HG丸ｺﾞｼｯｸM-PRO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○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関係がある？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1280" y="297000"/>
            <a:ext cx="842472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ffe2"/>
              </a:gs>
              <a:gs pos="100000">
                <a:srgbClr val="ffffcc"/>
              </a:gs>
            </a:gsLst>
            <a:lin ang="5400000"/>
          </a:gra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1280" y="3682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　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HG丸ｺﾞｼｯｸM-PRO"/>
              </a:rPr>
              <a:t>労働災害防止対策の歴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11280" y="472428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3674"/>
                </a:solidFill>
                <a:latin typeface="Times New Roman"/>
              </a:rPr>
              <a:t>○ </a:t>
            </a:r>
            <a:r>
              <a:rPr b="1" lang="zh-CN" sz="3200" spc="-1" strike="noStrike">
                <a:solidFill>
                  <a:srgbClr val="c63674"/>
                </a:solidFill>
                <a:latin typeface="Arial"/>
                <a:ea typeface="HG丸ｺﾞｼｯｸM-PRO"/>
              </a:rPr>
              <a:t>関係があった？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ff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41280" y="189000"/>
            <a:ext cx="8424720" cy="693720"/>
            <a:chOff x="341280" y="189000"/>
            <a:chExt cx="8424720" cy="693720"/>
          </a:xfrm>
        </p:grpSpPr>
        <p:sp>
          <p:nvSpPr>
            <p:cNvPr id="115" name=""/>
            <p:cNvSpPr/>
            <p:nvPr/>
          </p:nvSpPr>
          <p:spPr>
            <a:xfrm>
              <a:off x="341280" y="189000"/>
              <a:ext cx="8424720" cy="693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5"/>
                </a:gs>
                <a:gs pos="100000">
                  <a:srgbClr val="ffddff"/>
                </a:gs>
              </a:gsLst>
              <a:lin ang="5400000"/>
            </a:gradFill>
            <a:ln cap="sq"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1280" y="272880"/>
              <a:ext cx="8424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10</a:t>
              </a:r>
              <a:r>
                <a:rPr b="1" lang="zh-CN" sz="26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．労働災害防止対策の変化－リスクアセスメン</a:t>
              </a:r>
              <a:r>
                <a:rPr b="1" lang="en-US" sz="26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(2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95280" y="1052640"/>
            <a:ext cx="6516720" cy="296532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297000" y="4221000"/>
            <a:ext cx="8469000" cy="2346480"/>
            <a:chOff x="297000" y="4221000"/>
            <a:chExt cx="8469000" cy="2346480"/>
          </a:xfrm>
        </p:grpSpPr>
        <p:sp>
          <p:nvSpPr>
            <p:cNvPr id="119" name=""/>
            <p:cNvSpPr/>
            <p:nvPr/>
          </p:nvSpPr>
          <p:spPr>
            <a:xfrm>
              <a:off x="2627280" y="4221000"/>
              <a:ext cx="6138720" cy="2160720"/>
            </a:xfrm>
            <a:prstGeom prst="wedgeRoundRectCallout">
              <a:avLst>
                <a:gd name="adj1" fmla="val -66550"/>
                <a:gd name="adj2" fmla="val -2976"/>
                <a:gd name="adj3" fmla="val 16667"/>
              </a:avLst>
            </a:prstGeom>
            <a:solidFill>
              <a:srgbClr val="ebffff"/>
            </a:solidFill>
            <a:ln cap="sq"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08360" y="4611600"/>
              <a:ext cx="5796000" cy="15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  <a:ea typeface="HG丸ｺﾞｼｯｸM-PRO"/>
                </a:rPr>
                <a:t>なるほど・・。単なる感じ方では安全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  <a:ea typeface="HG丸ｺﾞｼｯｸM-PRO"/>
                </a:rPr>
                <a:t>のか危険なのか明確でないが、数値化・具体化で、それが明確になるなァ・・。</a:t>
              </a: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297000" y="4221000"/>
              <a:ext cx="1611000" cy="2346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ff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41280" y="189000"/>
            <a:ext cx="8424720" cy="693720"/>
            <a:chOff x="341280" y="189000"/>
            <a:chExt cx="8424720" cy="693720"/>
          </a:xfrm>
        </p:grpSpPr>
        <p:sp>
          <p:nvSpPr>
            <p:cNvPr id="124" name=""/>
            <p:cNvSpPr/>
            <p:nvPr/>
          </p:nvSpPr>
          <p:spPr>
            <a:xfrm>
              <a:off x="341280" y="189000"/>
              <a:ext cx="8424720" cy="693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5"/>
                </a:gs>
                <a:gs pos="100000">
                  <a:srgbClr val="ffddff"/>
                </a:gs>
              </a:gsLst>
              <a:lin ang="5400000"/>
            </a:gradFill>
            <a:ln cap="sq"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1280" y="272880"/>
              <a:ext cx="8424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11</a:t>
              </a:r>
              <a:r>
                <a:rPr b="1" lang="zh-CN" sz="26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．労働災害防止対策の変化－リスクアセスメン</a:t>
              </a:r>
              <a:r>
                <a:rPr b="1" lang="en-US" sz="26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(3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84360" y="101592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HG丸ｺﾞｼｯｸM-PRO"/>
              </a:rPr>
              <a:t>○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HG丸ｺﾞｼｯｸM-PRO"/>
              </a:rPr>
              <a:t>リスクアセスメントの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8000" y="1535040"/>
            <a:ext cx="8964720" cy="4489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ff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41280" y="115920"/>
            <a:ext cx="8424720" cy="693720"/>
            <a:chOff x="341280" y="115920"/>
            <a:chExt cx="8424720" cy="693720"/>
          </a:xfrm>
        </p:grpSpPr>
        <p:sp>
          <p:nvSpPr>
            <p:cNvPr id="51" name=""/>
            <p:cNvSpPr/>
            <p:nvPr/>
          </p:nvSpPr>
          <p:spPr>
            <a:xfrm>
              <a:off x="341280" y="115920"/>
              <a:ext cx="8424720" cy="693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5"/>
                </a:gs>
                <a:gs pos="100000">
                  <a:srgbClr val="ffddff"/>
                </a:gs>
              </a:gsLst>
              <a:lin ang="5400000"/>
            </a:gradFill>
            <a:ln cap="sq"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1280" y="199800"/>
              <a:ext cx="84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　</a:t>
              </a:r>
              <a:r>
                <a:rPr b="1" lang="en-US" sz="28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2</a:t>
              </a:r>
              <a:r>
                <a:rPr b="1" lang="zh-CN" sz="28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．全国安全週間とワールドカップの関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265640" y="3544920"/>
            <a:ext cx="4878360" cy="2833560"/>
            <a:chOff x="4265640" y="3544920"/>
            <a:chExt cx="4878360" cy="28335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5435640" y="5121360"/>
              <a:ext cx="313380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3"/>
            <p:cNvSpPr/>
            <p:nvPr/>
          </p:nvSpPr>
          <p:spPr>
            <a:xfrm>
              <a:off x="4265640" y="3544920"/>
              <a:ext cx="487836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　思い出しましたか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　残念ながらＰＫ戦でまけましたよね・・・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3"/>
          <p:cNvSpPr/>
          <p:nvPr/>
        </p:nvSpPr>
        <p:spPr>
          <a:xfrm>
            <a:off x="142920" y="1160640"/>
            <a:ext cx="8821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　</a:t>
            </a:r>
            <a:r>
              <a:rPr b="0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2010</a:t>
            </a:r>
            <a:r>
              <a:rPr b="0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年はワールドカップが開催された年でし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　</a:t>
            </a:r>
            <a:r>
              <a:rPr b="0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南アフリカ大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42920" y="2392200"/>
            <a:ext cx="8821800" cy="3743640"/>
            <a:chOff x="142920" y="2392200"/>
            <a:chExt cx="8821800" cy="3743640"/>
          </a:xfrm>
        </p:grpSpPr>
        <p:grpSp>
          <p:nvGrpSpPr>
            <p:cNvPr id="58" name=""/>
            <p:cNvGrpSpPr/>
            <p:nvPr/>
          </p:nvGrpSpPr>
          <p:grpSpPr>
            <a:xfrm>
              <a:off x="746280" y="3357720"/>
              <a:ext cx="3259080" cy="2778120"/>
              <a:chOff x="746280" y="3357720"/>
              <a:chExt cx="3259080" cy="2778120"/>
            </a:xfrm>
          </p:grpSpPr>
          <p:pic>
            <p:nvPicPr>
              <p:cNvPr id="59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746280" y="3357720"/>
                <a:ext cx="2276640" cy="277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81360" y="4746960"/>
                <a:ext cx="1224000" cy="1220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" name="Text Box 3"/>
            <p:cNvSpPr/>
            <p:nvPr/>
          </p:nvSpPr>
          <p:spPr>
            <a:xfrm>
              <a:off x="142920" y="2392200"/>
              <a:ext cx="882180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　その年の全国安全週間のポスターは、犬とサッカ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　ボールを描いた図柄でした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ff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41280" y="297000"/>
            <a:ext cx="8424720" cy="693720"/>
            <a:chOff x="341280" y="297000"/>
            <a:chExt cx="8424720" cy="693720"/>
          </a:xfrm>
        </p:grpSpPr>
        <p:sp>
          <p:nvSpPr>
            <p:cNvPr id="64" name=""/>
            <p:cNvSpPr/>
            <p:nvPr/>
          </p:nvSpPr>
          <p:spPr>
            <a:xfrm>
              <a:off x="341280" y="297000"/>
              <a:ext cx="8424720" cy="693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5"/>
                </a:gs>
                <a:gs pos="100000">
                  <a:srgbClr val="ffddff"/>
                </a:gs>
              </a:gsLst>
              <a:lin ang="5400000"/>
            </a:gradFill>
            <a:ln cap="sq"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1280" y="380880"/>
              <a:ext cx="84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　</a:t>
              </a:r>
              <a:r>
                <a:rPr b="1" lang="en-US" sz="28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3</a:t>
              </a:r>
              <a:r>
                <a:rPr b="1" lang="zh-CN" sz="28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．全国安全週間とワールドカップの関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Text Box 3"/>
          <p:cNvSpPr/>
          <p:nvPr/>
        </p:nvSpPr>
        <p:spPr>
          <a:xfrm>
            <a:off x="971640" y="1125360"/>
            <a:ext cx="72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もう一つありました！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51280" y="5373720"/>
            <a:ext cx="3421080" cy="1147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971640" y="1628640"/>
            <a:ext cx="72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a00"/>
                </a:solidFill>
                <a:latin typeface="HG丸ｺﾞｼｯｸM-PRO"/>
                <a:ea typeface="HG丸ｺﾞｼｯｸM-PRO"/>
              </a:rPr>
              <a:t>（平成</a:t>
            </a:r>
            <a:r>
              <a:rPr b="1" lang="en-US" sz="2800" spc="-1" strike="noStrike">
                <a:solidFill>
                  <a:srgbClr val="009a00"/>
                </a:solidFill>
                <a:latin typeface="HG丸ｺﾞｼｯｸM-PRO"/>
                <a:ea typeface="HG丸ｺﾞｼｯｸM-PRO"/>
              </a:rPr>
              <a:t>14</a:t>
            </a:r>
            <a:r>
              <a:rPr b="1" lang="zh-CN" sz="2800" spc="-1" strike="noStrike">
                <a:solidFill>
                  <a:srgbClr val="009a00"/>
                </a:solidFill>
                <a:latin typeface="HG丸ｺﾞｼｯｸM-PRO"/>
                <a:ea typeface="HG丸ｺﾞｼｯｸM-PRO"/>
              </a:rPr>
              <a:t>年度 スローガン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41280" y="3789360"/>
            <a:ext cx="842472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韓国と共同開催の２００２年ワールドカッ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　この時も残念ながら決勝トーナメント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回戦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　トルコに負けました・・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39920" y="2187720"/>
            <a:ext cx="251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00"/>
                </a:solidFill>
                <a:latin typeface="HGP創英角ﾎﾟｯﾌﾟ体"/>
                <a:ea typeface="HGP創英角ﾎﾟｯﾌﾟ体"/>
              </a:rPr>
              <a:t>ゴー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800360" y="2889360"/>
            <a:ext cx="66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は危険ゼロ</a:t>
            </a:r>
            <a:r>
              <a:rPr b="1" lang="ja-JP" sz="2800" spc="-1" strike="noStrike" u="sng">
                <a:solidFill>
                  <a:srgbClr val="0000ff"/>
                </a:solidFill>
                <a:uFillTx/>
                <a:latin typeface="HG丸ｺﾞｼｯｸM-PRO"/>
                <a:ea typeface="HG丸ｺﾞｼｯｸM-PRO"/>
              </a:rPr>
              <a:t> </a:t>
            </a:r>
            <a:r>
              <a:rPr b="1" lang="ja-JP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進めよう職場の安全管理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41280" y="229716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『めざ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ff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9280" y="314172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41280" y="176040"/>
            <a:ext cx="8424720" cy="694080"/>
            <a:chOff x="341280" y="176040"/>
            <a:chExt cx="8424720" cy="694080"/>
          </a:xfrm>
        </p:grpSpPr>
        <p:sp>
          <p:nvSpPr>
            <p:cNvPr id="76" name=""/>
            <p:cNvSpPr/>
            <p:nvPr/>
          </p:nvSpPr>
          <p:spPr>
            <a:xfrm>
              <a:off x="341280" y="176040"/>
              <a:ext cx="8424720" cy="694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5"/>
                </a:gs>
                <a:gs pos="100000">
                  <a:srgbClr val="ffddff"/>
                </a:gs>
              </a:gsLst>
              <a:lin ang="5400000"/>
            </a:gradFill>
            <a:ln cap="sq"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1280" y="260280"/>
              <a:ext cx="84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4</a:t>
              </a:r>
              <a:r>
                <a:rPr b="1" lang="zh-CN" sz="28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．全産業労働災害死亡者数推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08000" y="4545000"/>
            <a:ext cx="82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②</a:t>
            </a:r>
            <a:r>
              <a:rPr b="0" lang="en-US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S47</a:t>
            </a:r>
            <a:r>
              <a:rPr b="0" lang="zh-CN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年　</a:t>
            </a:r>
            <a:r>
              <a:rPr b="0" lang="zh-CN" sz="2800" spc="-1" strike="noStrike">
                <a:solidFill>
                  <a:srgbClr val="ff3300"/>
                </a:solidFill>
                <a:latin typeface="ＭＳ ゴシック"/>
                <a:ea typeface="ＭＳ ゴシック"/>
              </a:rPr>
              <a:t>労働安全衛生法制定　</a:t>
            </a:r>
            <a:r>
              <a:rPr b="0" lang="en-US" sz="2800" spc="-1" strike="noStrike">
                <a:solidFill>
                  <a:srgbClr val="ff3300"/>
                </a:solidFill>
                <a:latin typeface="ＭＳ ゴシック"/>
                <a:ea typeface="ＭＳ ゴシック"/>
              </a:rPr>
              <a:t>5,631</a:t>
            </a:r>
            <a:r>
              <a:rPr b="0" lang="zh-CN" sz="2800" spc="-1" strike="noStrike">
                <a:solidFill>
                  <a:srgbClr val="ff3300"/>
                </a:solidFill>
                <a:latin typeface="ＭＳ ゴシック"/>
                <a:ea typeface="ＭＳ ゴシック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406224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①</a:t>
            </a:r>
            <a:r>
              <a:rPr b="0" lang="en-US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S35</a:t>
            </a:r>
            <a:r>
              <a:rPr b="0" lang="zh-CN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年～池田内閣 </a:t>
            </a:r>
            <a:r>
              <a:rPr b="0" lang="zh-CN" sz="2800" spc="-1" strike="noStrike">
                <a:solidFill>
                  <a:srgbClr val="ff3300"/>
                </a:solidFill>
                <a:latin typeface="ＭＳ ゴシック"/>
                <a:ea typeface="ＭＳ ゴシック"/>
              </a:rPr>
              <a:t>所得倍増計画で増加 </a:t>
            </a:r>
            <a:r>
              <a:rPr b="0" lang="en-US" sz="2800" spc="-1" strike="noStrike">
                <a:solidFill>
                  <a:srgbClr val="ff3300"/>
                </a:solidFill>
                <a:latin typeface="ＭＳ ゴシック"/>
                <a:ea typeface="ＭＳ ゴシック"/>
              </a:rPr>
              <a:t>6,712</a:t>
            </a:r>
            <a:r>
              <a:rPr b="0" lang="zh-CN" sz="2800" spc="-1" strike="noStrike">
                <a:solidFill>
                  <a:srgbClr val="ff3300"/>
                </a:solidFill>
                <a:latin typeface="ＭＳ ゴシック"/>
                <a:ea typeface="ＭＳ ゴシック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2920" y="5934240"/>
            <a:ext cx="82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③</a:t>
            </a:r>
            <a:r>
              <a:rPr b="0" lang="en-US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平成</a:t>
            </a:r>
            <a:r>
              <a:rPr b="0" lang="en-US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21</a:t>
            </a:r>
            <a:r>
              <a:rPr b="0" lang="zh-CN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年　死亡者数</a:t>
            </a:r>
            <a:r>
              <a:rPr b="0" lang="en-US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1,075</a:t>
            </a:r>
            <a:r>
              <a:rPr b="0" lang="zh-CN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6360" y="5148360"/>
            <a:ext cx="82627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・安全衛生規則</a:t>
            </a:r>
            <a:r>
              <a:rPr b="0" lang="zh-CN" sz="2400" spc="-1" strike="noStrike">
                <a:solidFill>
                  <a:srgbClr val="ff3300"/>
                </a:solidFill>
                <a:latin typeface="ＭＳ ゴシック"/>
                <a:ea typeface="ＭＳ ゴシック"/>
              </a:rPr>
              <a:t>：</a:t>
            </a:r>
            <a:r>
              <a:rPr b="0" lang="en-US" sz="2400" spc="-1" strike="noStrike">
                <a:solidFill>
                  <a:srgbClr val="ff3300"/>
                </a:solidFill>
                <a:latin typeface="ＭＳ ゴシック"/>
                <a:ea typeface="ＭＳ ゴシック"/>
              </a:rPr>
              <a:t>130</a:t>
            </a:r>
            <a:r>
              <a:rPr b="0" lang="zh-CN" sz="2400" spc="-1" strike="noStrike">
                <a:solidFill>
                  <a:srgbClr val="ff3300"/>
                </a:solidFill>
                <a:latin typeface="ＭＳ ゴシック"/>
                <a:ea typeface="ＭＳ ゴシック"/>
              </a:rPr>
              <a:t>万件の具体事例を基に策定・罰則あ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ＭＳ ゴシック"/>
                <a:ea typeface="ＭＳ ゴシック"/>
              </a:rPr>
              <a:t>　　　　　　　　制定を機に労働災害が激減し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24000" y="944640"/>
          <a:ext cx="8496000" cy="30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44640"/>
                    <a:ext cx="849600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ff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9280" y="314172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1280" y="176040"/>
            <a:ext cx="8424720" cy="69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5"/>
              </a:gs>
              <a:gs pos="100000">
                <a:srgbClr val="ffddff"/>
              </a:gs>
            </a:gsLst>
            <a:lin ang="5400000"/>
          </a:gra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128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．安全週間スローガンの変遷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19280" y="981000"/>
            <a:ext cx="7632720" cy="5518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ff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9280" y="314172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1280" y="176040"/>
            <a:ext cx="8424720" cy="69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5"/>
              </a:gs>
              <a:gs pos="100000">
                <a:srgbClr val="ffddff"/>
              </a:gs>
            </a:gsLst>
            <a:lin ang="5400000"/>
          </a:gra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128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．安全週間スローガンの変遷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58920" y="944640"/>
            <a:ext cx="8569080" cy="5605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ff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41280" y="358920"/>
            <a:ext cx="8424720" cy="693720"/>
            <a:chOff x="341280" y="358920"/>
            <a:chExt cx="8424720" cy="693720"/>
          </a:xfrm>
        </p:grpSpPr>
        <p:sp>
          <p:nvSpPr>
            <p:cNvPr id="96" name=""/>
            <p:cNvSpPr/>
            <p:nvPr/>
          </p:nvSpPr>
          <p:spPr>
            <a:xfrm>
              <a:off x="341280" y="358920"/>
              <a:ext cx="8424720" cy="693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5"/>
                </a:gs>
                <a:gs pos="100000">
                  <a:srgbClr val="ffddff"/>
                </a:gs>
              </a:gsLst>
              <a:lin ang="5400000"/>
            </a:gradFill>
            <a:ln cap="sq"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1280" y="442800"/>
              <a:ext cx="84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7</a:t>
              </a:r>
              <a:r>
                <a:rPr b="1" lang="zh-CN" sz="28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．安全週間スローガンの変遷</a:t>
              </a:r>
              <a:r>
                <a:rPr b="1" lang="en-US" sz="28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-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39640" y="1285920"/>
            <a:ext cx="79200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HG丸ｺﾞｼｯｸM-PRO"/>
              </a:rPr>
              <a:t>１．</a:t>
            </a:r>
            <a:r>
              <a:rPr b="1" lang="zh-CN" sz="2800" spc="-1" strike="noStrike">
                <a:solidFill>
                  <a:srgbClr val="ff3300"/>
                </a:solidFill>
                <a:latin typeface="HG丸ｺﾞｼｯｸM-PRO"/>
                <a:ea typeface="HG丸ｺﾞｼｯｸM-PRO"/>
              </a:rPr>
              <a:t>キーワード：災害ゼ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　・第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54</a:t>
            </a: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回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(S56</a:t>
            </a: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年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～第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70</a:t>
            </a: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回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(H9</a:t>
            </a: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年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ま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　・災害ゼロを目指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2889360"/>
            <a:ext cx="79200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HG丸ｺﾞｼｯｸM-PRO"/>
              </a:rPr>
              <a:t>２．キーワード：危険ゼ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　・第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73</a:t>
            </a: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回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(H12</a:t>
            </a: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年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～第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75</a:t>
            </a: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回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(H14</a:t>
            </a: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年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ま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　・危険の芽を摘み取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4545000"/>
            <a:ext cx="842508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HG丸ｺﾞｼｯｸM-PRO"/>
              </a:rPr>
              <a:t>３．キーワード：リスク低減＆リスクアセスメン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　・第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78</a:t>
            </a: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回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(H17</a:t>
            </a: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年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～第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83</a:t>
            </a: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回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(H22</a:t>
            </a: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年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ま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　・ケガや損失が起こる可能性を数値化して評価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　　低減措置を行うことで先取りの安全を推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ff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41280" y="358920"/>
            <a:ext cx="8424720" cy="693720"/>
            <a:chOff x="341280" y="358920"/>
            <a:chExt cx="8424720" cy="693720"/>
          </a:xfrm>
        </p:grpSpPr>
        <p:sp>
          <p:nvSpPr>
            <p:cNvPr id="103" name=""/>
            <p:cNvSpPr/>
            <p:nvPr/>
          </p:nvSpPr>
          <p:spPr>
            <a:xfrm>
              <a:off x="341280" y="358920"/>
              <a:ext cx="8424720" cy="693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5"/>
                </a:gs>
                <a:gs pos="100000">
                  <a:srgbClr val="ffddff"/>
                </a:gs>
              </a:gsLst>
              <a:lin ang="5400000"/>
            </a:gradFill>
            <a:ln cap="sq"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1280" y="442800"/>
              <a:ext cx="84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８．労働災害防止対策の変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39640" y="1744560"/>
            <a:ext cx="79200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HG丸ｺﾞｼｯｸM-PRO"/>
              </a:rPr>
              <a:t>１．</a:t>
            </a:r>
            <a:r>
              <a:rPr b="1" lang="zh-CN" sz="2800" spc="-1" strike="noStrike">
                <a:solidFill>
                  <a:srgbClr val="ff3300"/>
                </a:solidFill>
                <a:latin typeface="HG丸ｺﾞｼｯｸM-PRO"/>
                <a:ea typeface="HG丸ｺﾞｼｯｸM-PRO"/>
              </a:rPr>
              <a:t>類似災害</a:t>
            </a:r>
            <a:r>
              <a:rPr b="1" lang="en-US" sz="2800" spc="-1" strike="noStrike">
                <a:solidFill>
                  <a:srgbClr val="ff3300"/>
                </a:solidFill>
                <a:latin typeface="HG丸ｺﾞｼｯｸM-PRO"/>
                <a:ea typeface="HG丸ｺﾞｼｯｸM-PRO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HG丸ｺﾞｼｯｸM-PRO"/>
                <a:ea typeface="HG丸ｺﾞｼｯｸM-PRO"/>
              </a:rPr>
              <a:t>過去の災害</a:t>
            </a:r>
            <a:r>
              <a:rPr b="1" lang="en-US" sz="2800" spc="-1" strike="noStrike">
                <a:solidFill>
                  <a:srgbClr val="ff3300"/>
                </a:solidFill>
                <a:latin typeface="HG丸ｺﾞｼｯｸM-PRO"/>
                <a:ea typeface="HG丸ｺﾞｼｯｸM-PRO"/>
              </a:rPr>
              <a:t>) </a:t>
            </a:r>
            <a:r>
              <a:rPr b="1" lang="zh-CN" sz="2800" spc="-1" strike="noStrike">
                <a:solidFill>
                  <a:srgbClr val="ff3300"/>
                </a:solidFill>
                <a:latin typeface="HG丸ｺﾞｼｯｸM-PRO"/>
                <a:ea typeface="HG丸ｺﾞｼｯｸM-PRO"/>
              </a:rPr>
              <a:t>が馴染まなくなっ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　・過去の事例自体が減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　・労災防止対策のマンネリ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　・重大災害の増加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(JR</a:t>
            </a: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福知山線脱線事故等</a:t>
            </a:r>
            <a:r>
              <a:rPr b="1" lang="en-US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4119480"/>
            <a:ext cx="79200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HG丸ｺﾞｼｯｸM-PRO"/>
              </a:rPr>
              <a:t>２．</a:t>
            </a:r>
            <a:r>
              <a:rPr b="1" lang="zh-CN" sz="2800" spc="-1" strike="noStrike">
                <a:solidFill>
                  <a:srgbClr val="ff3300"/>
                </a:solidFill>
                <a:latin typeface="HG丸ｺﾞｼｯｸM-PRO"/>
                <a:ea typeface="HG丸ｺﾞｼｯｸM-PRO"/>
              </a:rPr>
              <a:t>新たな「安全衛生管理活動」の展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　・危険を予知し回避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　・安全優先風土の確立を図る企業の増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　・リスクアセスメントの導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ff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41280" y="358920"/>
            <a:ext cx="8424720" cy="693720"/>
            <a:chOff x="341280" y="358920"/>
            <a:chExt cx="8424720" cy="693720"/>
          </a:xfrm>
        </p:grpSpPr>
        <p:sp>
          <p:nvSpPr>
            <p:cNvPr id="109" name=""/>
            <p:cNvSpPr/>
            <p:nvPr/>
          </p:nvSpPr>
          <p:spPr>
            <a:xfrm>
              <a:off x="341280" y="358920"/>
              <a:ext cx="8424720" cy="693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5"/>
                </a:gs>
                <a:gs pos="100000">
                  <a:srgbClr val="ffddff"/>
                </a:gs>
              </a:gsLst>
              <a:lin ang="5400000"/>
            </a:gradFill>
            <a:ln cap="sq"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1280" y="442800"/>
              <a:ext cx="8424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９．労働災害防止対策の変化－リスクアセスメント</a:t>
              </a:r>
              <a:r>
                <a:rPr b="1" lang="en-US" sz="2600" spc="-1" strike="noStrike">
                  <a:solidFill>
                    <a:srgbClr val="0000ff"/>
                  </a:solidFill>
                  <a:latin typeface="HG丸ｺﾞｼｯｸM-PRO"/>
                  <a:ea typeface="HG丸ｺﾞｼｯｸM-PRO"/>
                </a:rPr>
                <a:t>(1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58920" y="1197000"/>
            <a:ext cx="4789440" cy="3809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71640" y="5122800"/>
            <a:ext cx="7056360" cy="136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6T23:23:30Z</dcterms:created>
  <dc:creator/>
  <dc:description/>
  <dc:language>en-US</dc:language>
  <cp:lastModifiedBy> </cp:lastModifiedBy>
  <dcterms:modified xsi:type="dcterms:W3CDTF">2011-06-30T02:01:10Z</dcterms:modified>
  <cp:revision>110</cp:revision>
  <dc:subject/>
  <dc:title>PowerPoint プレゼンテーション</dc:title>
</cp:coreProperties>
</file>